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12D0-7468-43EF-8B18-90A92F1C2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3E4-670C-4C77-8261-1E2B04A0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C760-7802-484D-ABE5-705399669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B242-4151-4BC1-A8EF-361D45C39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F49A-1396-480F-AD33-B34E11BB3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FED5-6825-4634-9EBC-B2637DEE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CF8DE-B4F2-4C8D-B10D-D659A4AB1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7EAA-581A-4F5B-A860-3BB794DE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4AA9-893D-4BBF-ADC5-A968ED79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B34E2-4994-4750-BEF6-34060FB6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6DD1-6B97-4D96-A086-A5A0B7BB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86BE-AB87-471A-919E-8FBAAEA5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B50A-A1C0-476D-8035-9C229ECE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E5C32-F248-49AC-B5C8-DF2A15EB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AEAE3-24B5-4464-86F0-B9400D2F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834C-ACE7-4CF3-B4C2-62AF94873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9AC0-1B9A-4E05-A9F0-BEBC9C66F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FB11-7FC5-449F-9912-DF4BC12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A4B7-55B1-4A9C-9BEA-257DC6B3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169-5398-4398-B9AA-9A9F3289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1098-BCB4-4CA9-AFDC-70495C29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A0E6-CB98-4CE0-8820-A427D47F1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A72B-198B-4F4F-B9D3-6B14286E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00E-E07F-4AE5-BD81-49F26DE6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132D-490A-4F34-9730-D2F4139FBAD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C917-084C-4D92-A4A7-4CD92A4461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inkedin.com/groups?gid=35771&amp;trk=myg_ugrp_ovr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linkedin.com/groups?gid=75556&amp;trk=myg_ugrp_ovr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linkedin.com/groups?gid=1941474&amp;trk=myg_ugrp_ovr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linkedin.com/groups?gid=134906&amp;trk=myg_ugrp_ovr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linkedin.com/groups?gid=51822&amp;trk=myg_ugrp_ovr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linkedin.com/groups?gid=43621&amp;trk=myg_ugrp_ovr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linkedin.com/groups?gid=134079&amp;trk=myg_ugrp_ovr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linkedin.com/groups?gid=1146807&amp;trk=myg_ugrp_ovr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linkedin.com/groups?gid=41352&amp;trk=myg_ugrp_ovr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linkedin.com/groups?gid=1927518&amp;trk=myg_ugrp_ovr" TargetMode="External"/><Relationship Id="rId20" Type="http://schemas.openxmlformats.org/officeDocument/2006/relationships/image" Target="../media/image11.jpeg"/><Relationship Id="rId21" Type="http://schemas.openxmlformats.org/officeDocument/2006/relationships/hyperlink" Target="http://www.linkedin.com/groups?gid=54066&amp;trk=myg_ugrp_ovr" TargetMode="External"/><Relationship Id="rId22" Type="http://schemas.openxmlformats.org/officeDocument/2006/relationships/image" Target="../media/image12.jpeg"/><Relationship Id="rId23" Type="http://schemas.openxmlformats.org/officeDocument/2006/relationships/image" Target="../media/image13.jpeg"/><Relationship Id="rId2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h.hawaii.edu/~hile/math100/combc_files/cards.jpg&amp;imgrefurl=http://www.math.hawaii.edu/~hile/math100/combc.htm&amp;h=192&amp;w=210&amp;sz=7&amp;hl=en&amp;start=3&amp;tbnid=S48EXtkf6qx_YM:&amp;tbnh=97&amp;tbnw=106&amp;prev=/images%3Fq%3Dhand%2Bof%2Bcards%26gbv%3D2%26svnum%3D10%26hl%3Den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TS Re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 deep Understand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Customers and Markets throu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keting Analy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ture the data 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formulate action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ales and marketing pl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t Minimize guess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e Sales and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paigns analytically planned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experienced Professio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urn your ideas into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33"/>
                </a:solidFill>
                <a:uFillTx/>
                <a:latin typeface="Garamond"/>
              </a:rPr>
              <a:t>Data-Mining, Modeling and Dashboard Construction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 process starts with conversion of all marketing activities into currency metrics and mining data to determine each variables relationship to sales. This provides a return on marketing investment for each marketing activity. Areas of excellence for IMTS Research includ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ction of data from multiple sources formats and locations to provide very detailed views into every marketing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variable analysis and the ability to develop a common cost denominator for each market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ility to formulate and quantify each marketing variables impact on sales and provide predictive 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ashboard that includes the key performance indicators that are predictive of sales revenue. (Anyone can put 20 variables on board the trick is to find the 5 that mat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TS Revolutionizes Focus Group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media based professional groups allow us to moblize the collective intelligence of the best and brightest to secure the best answers to toug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! Sales Best Practi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6668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Adobe Software Us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2743200"/>
            <a:ext cx="1143000" cy="571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B2B Lead Generation Roundtab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81280" y="281952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BtoB Marketi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2819520"/>
            <a:ext cx="99072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"/>
          <p:cNvGraphicFramePr/>
          <p:nvPr/>
        </p:nvGraphicFramePr>
        <p:xfrm>
          <a:off x="-152280" y="0"/>
          <a:ext cx="182520" cy="716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pic>
        <p:nvPicPr>
          <p:cNvPr id="113" name="" descr="Chief Marketing Officer (CMO) Network - #1 Group for CMO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67280" y="2819520"/>
            <a:ext cx="838440" cy="419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CRM Expert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2819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Database Marketer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990720" y="35812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Eloqua Users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514600" y="3733920"/>
            <a:ext cx="990720" cy="495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eMarketing Association Network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09880" y="373392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omeland Security Information Sharing and Social Media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029200" y="3657600"/>
            <a:ext cx="1028880" cy="514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Innovative Marketing, PR, Sales, Word-of-Mouth &amp; Buzz Innovators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6248520" y="365760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Pharma Marketing"/>
          <p:cNvPicPr/>
          <p:nvPr/>
        </p:nvPicPr>
        <p:blipFill>
          <a:blip r:embed="rId23"/>
          <a:stretch/>
        </p:blipFill>
        <p:spPr>
          <a:xfrm>
            <a:off x="7543800" y="3733920"/>
            <a:ext cx="1066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Understanding The Voice of the Custome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Business Processes are improved by developing an accurate understanding customer thinking and motivation. Quantifying customer preference information drives effective campaig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customer preferences are understood and quantified business processes can be improved in areas that include but are not limited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t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tisfa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etitive tactics and strate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Marketing Analytics provide the winning edg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TS Research provides Advanced marketing analytics tools to understand the voice of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mining analy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al Information Systems (G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oint (trade-off)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ining and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hboard analy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and on-line focus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 surve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 aided Telephone Int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ine and Social Media drive Focu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ext Mining analyt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e Word Search Misses Important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ople do not isolate one element and react to it…then decide if it is an important element or iss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Voice of the Customer can only be found in the context of Answers to open ended ques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TS uses Text Mining Advanced Algorithms to quantify contextual data for maximum impact and accur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cation of Text Mining Analytic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pplication of the use of this tool may be customer complaints: We have taken large groups of seemingly unrelated customer comments and complaints and constructed a rules engine. We add to this the ability to quantify contextual information we were able to pin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service centers that underper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as of service where service delivered was misaligned with customer expect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k order of service issues and their effect on custome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active response doctrine that would anticipate and head off root causes of dissatisfaction or resolve dissatisfaction quickl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ographical Information System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iciently maps any types of data to GPS coordinates. Large amount of transaction data can be sifted and modeled to improve decisions relative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mo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Mai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rchandi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y for Click mark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gnage-Outdoor advertiz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graphic considerations relative to messaging and market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pplied Marketing Using GIS Da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ce the data is gathered and trends established we run the results against th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apestry datab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3rd party psychographic segmentation system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data is analyzed to arrive at specific conclusions and sales and marketing action pla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joint Analy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njoi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for a better understanding of customer preference by modeling the way customers think when multiple variables are considered simultaneously to make a decision. Each element can be empirically to understand the impact of each variable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a hand of card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are dealt a h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know in a moment if it is  a “good” or “bad” h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01"/>
              </a:spcBef>
              <a:spcAft>
                <a:spcPts val="451"/>
              </a:spcAft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Joint Analysis quantifies each factor you considered in “an instant” relative to your decision to  HOLD OR FOLD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ca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2895480"/>
            <a:ext cx="16779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ample of Conjoint Analysis applied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ample: the decision to purchase an Airline seat is multi-variables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ecision the customer weighs many factors at on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of Fligh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 of St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oyalty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rvice Fees (Bags, Reservation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rrier Br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ternative Airpor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joint analysis is used to optimize pricing, messaging and branding decisions for each segment of Air-Traveler. We have ConJoint tools available to deal with Continuous variables (Taste of Sweet and Sour sauce) and discreet variables (Choice of Air Carr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4:59:24Z</dcterms:created>
  <dc:creator>Jay Jablonski</dc:creator>
  <dc:description/>
  <dc:language>en-US</dc:language>
  <cp:lastModifiedBy>Jay Jablonski</cp:lastModifiedBy>
  <dcterms:modified xsi:type="dcterms:W3CDTF">2010-11-08T20:23:17Z</dcterms:modified>
  <cp:revision>4</cp:revision>
  <dc:subject/>
  <dc:title>IMTS Research</dc:title>
</cp:coreProperties>
</file>